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B551-FCE2-4A47-BDED-3B2F1B682840}"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Σε ένα πλειοψηφιοκρατικό κοινοβούλιο (debating legislature), όπως η βρετανική Βουλή των Κοινοτήτων, η κύρια δραστηριότητα είναι ο κοινοβουλευτικός διάλογος στην ολομέλεια. Εκεί εξετάζονται τα μείζονα ζητήματα και τα κόμματα κερδίζουν ή χάνουν έδαφος.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3D15C-2F1D-4C12-B260-89F92027840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Αντίθετα, σε ένα διαβουλευτικό κοινοβούλιο (committee-based legislature), όπως το αμερικανικό Κογκρέσο, η περισσότερη δουλειά γίνεται σε επίπεδο επιτροπών. Εκεί τα μέλη τους ασχολούνται με την εξειδικευμένη μετατροπή των νομοσχεδίων σε νόμους, διενεργούν ακροάσεις και ελέγχουν την εκτελεστική εξουσία.</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3A799-6EC5-4D1A-9BB8-50D90FC9E94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ότι η διαδικασία ψήφισης των νομοσχεδίων διαφέρει, όπως είναι λογικό, από χώρα σε χώρα, το Σχήμα 15.2 δίνει ένα γενικό περίγραμμ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διαδικασία είναι καθαρά διαβουλευτική, καθώς περιλαμβάνει διαδοχικά στάδια συζήτησης και διαλόγου, προχωρώντας από την ολομέλεια στις επιτροπές, για να επιστρέψει εν τέλει ξανά στην ολομέλεια.</a:t>
            </a:r>
            <a:endParaRPr b="0" lang="en-US" sz="1200" spc="-1" strike="noStrike">
              <a:solidFill>
                <a:srgbClr val="000000"/>
              </a:solidFill>
              <a:latin typeface="Arial"/>
            </a:endParaRPr>
          </a:p>
        </p:txBody>
      </p:sp>
      <p:sp>
        <p:nvSpPr>
          <p:cNvPr id="18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710BB-D0CA-447E-B7B0-5E90C906924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Ανακλητός προϋπολογισμός (reversionary budget) είναι ο προϋπολογισμός (κατά κανόνα περασμένου έτους) που τίθεται σε ισχύ εάν το νομοθετικό σώμα δεν ψηφίσει εγκαίρως νέο προϋπολογισμό.</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298B-FEB3-482F-B729-A45BE85A1A3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σύγχρονα κοινοβούλια διαθέτουν τρία βασικά μέσα ελέγχου της εκτελεστικής εξουσίας: κατ' αρχάς, τις ερωτήσεις και επερωτήσεις, κατά δεύτερον, τη σύγκληση έκτακτων συνεδριάσεων της Βουλής και την πρόταση δυσπιστίας, και κατά τρίτον, τις εξεταστικές των πραγμάτων επιτροπές. </a:t>
            </a:r>
            <a:endParaRPr b="0" lang="en-US" sz="1200" spc="-1" strike="noStrike">
              <a:solidFill>
                <a:srgbClr val="000000"/>
              </a:solidFill>
              <a:latin typeface="Arial"/>
            </a:endParaRPr>
          </a:p>
        </p:txBody>
      </p:sp>
      <p:sp>
        <p:nvSpPr>
          <p:cNvPr id="19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9BB6-7B26-4E0B-811E-9EA21A9703C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Οι ερωτήσεις (questions) απευθύνουν συγκεκριμένα ερωτήματα στους καθ' ύλην αρμόδιους υπουργούς.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Η επερώτηση (interpellation) είναι μορφή ερώτησης την οποία απευθύνει η αντιπολίτευση στην κυβέρνηση. Ακολουθεί κοινοβουλευτικός διάλογος και στη συνέχεια ψηφοφορία μεταξύ των βουλευτών, οι οποίοι αποφασίζουν για το κατά πόσο το κοινοβούλιο έμεινε ικανοποιημένο από τις απαντήσεις που δόθηκαν.</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2F7B-2295-4F57-9833-366D89289E2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πιτροπές των κοινοβουλίων είναι μικρές ομάδες εργασίας στις οποίες συμμετέχουν βουλευτέ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υγκροτούνται κατά κανόνα από τη μεγαλύτερη και πιο πολυάσχολη Κάτω Βουλή, προκειμένου να αντιμετωπιστεί ο υπερβολικός φόρτος εργασίας. Οι ομάδες εργασίας παραδοσιακά παίρνουν τη μορφή νομοπαρασκευαστικών επιτροπών, διακομματικών εξεταστικών των πραγμάτων επιτροπών ή επιτροπών συνεννόησης ή μεσολάβησης </a:t>
            </a:r>
            <a:endParaRPr b="0" lang="en-US" sz="1200" spc="-1" strike="noStrike">
              <a:solidFill>
                <a:srgbClr val="000000"/>
              </a:solidFill>
              <a:latin typeface="Arial"/>
            </a:endParaRPr>
          </a:p>
        </p:txBody>
      </p:sp>
      <p:sp>
        <p:nvSpPr>
          <p:cNvPr id="20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34600-ADFE-40D4-ABA7-147B612EAE1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ύμφωνα με τη διάσημη διάκριση που έκανε ο Weber (1918), οι πολιτικοί καριέρας (professional politicians) ζουν από, και όχι μόνο για, την πολιτική. Πρόκειται για ανθρώπους που βλέπουν την πολιτική ως πλήρη απασχόληση και προσδοκούν από αυτήν εισόδημα, υποστήριξη, ιεραρχική ανέλιξη και συνταξιοδότηση. </a:t>
            </a:r>
            <a:endParaRPr b="0" lang="en-US" sz="1200" spc="-1" strike="noStrike">
              <a:solidFill>
                <a:srgbClr val="000000"/>
              </a:solidFill>
              <a:latin typeface="Arial"/>
            </a:endParaRPr>
          </a:p>
        </p:txBody>
      </p:sp>
      <p:sp>
        <p:nvSpPr>
          <p:cNvPr id="20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2709A-556E-4C33-9702-6E4770F126F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μιά φορά λέγεται ότι οι πολιτικοί καριέρας σχηματίζουν μια πολιτική τάξη (political class), όρος που υποδηλώνει την ύπαρξη μιας ομάδας που διαθέτει και συχνά ενεργεί με βάση κοινά συμφέροντα.</a:t>
            </a:r>
            <a:endParaRPr b="0" lang="en-US" sz="1200" spc="-1" strike="noStrike">
              <a:solidFill>
                <a:srgbClr val="000000"/>
              </a:solidFill>
              <a:latin typeface="Arial"/>
            </a:endParaRPr>
          </a:p>
        </p:txBody>
      </p:sp>
      <p:sp>
        <p:nvSpPr>
          <p:cNvPr id="20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DEFA9-AF98-4C26-AB45-3780755FBCD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Το πλεονέκτημα του κατέχοντος το αξίωμα (incumbency effect) αναφέρεται στο εκλογικό πλεονέκτημα που αποκτούν τα νυν μέλη ενός κοινοβουλίου όταν είναι ξανά υποψήφια. Στις ΗΠΑ, όπου το φαινόμενο αυτό είναι ιδιαίτερα έντονο, ως χηρεύουσα έδρα (open seat) ορίζεται η έδρα τής οποίας ο κάτοχος έχει αποσυρθεί, με αποτέλεσμα η εκλογική μάχη να γίνεται σε μεγαλύτερο βαθμό επί ίσοις όροις.</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B5BF-61D5-4218-83DF-578C8FDADBA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Νομοθετικό σώμα (legislature) είναι ένα πολυμελές αντιπροσωπευτικό όργανο, το οποίο διαβουλεύεται επί των δημόσιων ζητημάτων και καταλήγει σε δεσμευτικές δημόσιες πολιτικές αποφάσεις για λογαριασμό μιας πολιτικής κοινότητας που υπερβαίνει την εκτελεστική εξουσία (Norton, 1990, σ. 1).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Οι όροι που χρησιμοποιούνται για την ονομασία αυτών των σωμάτων αντανακλούν τις διαφορετικές ιστορικές τους καταβολές: οι συνελεύσεις συνέρχονται, οι σύνοδοι (Κογκρέσο) συνεδριάζουν, τα κοινοβούλια βουλεύονται και τα νομοθετικά σώματα θέτουν τους νόμους. Οι όροι αυτοί χρησιμοποιούνται εναλλάξιμα.</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2690C-7365-46E1-B155-D570A11ED95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Τα όρια θητείας (term limits) επιβάλλουν στους εκλεγμένους πολιτικούς συγκεκριμένο αριθμό θητειών που μπορούν να υπηρετήσουν ή  απαγορεύουν την επανεκλογή τους εάν δεν έχει μεσολαβήσει μια περίοδος. Επιβάλλουν την ανανέωση των σωμάτων με τίμημα τον μειωμένο επαγγελματισμό.</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20FC-85A1-405C-8ED8-8287A769BC7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Οι διασημότητες που πέρασαν στην πολιτική (celebrities-turned-politicians) εκμεταλλεύονται τη φήμη που απέκτησαν σε άλλους τομείς δραστηριότητας εκτός πολιτικής, για να διευκολύνουν το πέρασμά τους σε πολιτικά αξιώματα και βουλευτικές έδρες.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B948-51EC-4A67-A977-1D8F68C041D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ομάδα αυτή διαφοροποιείται από τους πολιτικούς ως διασημότητες (politicians-as-celebrities), οι οποίοι προβάλλονται στους ψηφοφόρους σαν διάσημοι σταρ του θεάτρου ή του κινηματογράφου.</a:t>
            </a:r>
            <a:endParaRPr b="0" lang="en-US" sz="800" spc="-1" strike="noStrike">
              <a:solidFill>
                <a:srgbClr val="000000"/>
              </a:solidFill>
              <a:latin typeface="Arial"/>
            </a:endParaRPr>
          </a:p>
        </p:txBody>
      </p:sp>
      <p:sp>
        <p:nvSpPr>
          <p:cNvPr id="21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D15A-8B18-48A4-846F-A2C5DF5ABA4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η στιγμή που τα κοινοβούλια αποτελούν σύμβολα της λαϊκής κυριαρχίας, ο ρόλος τους στα απολυταρχικά καθεστώτα είναι εξ ορισμού περιορισμένος. Τα κοινοβούλια στις μη δημοκρατικές χώρες λειτουργούν συνήθως ως σκιώδεις θεσμοί. Οι συνεδρίες τους είναι σύντομες και ορισμένα μέλη διορίζονται απευθείας από την κυβέρνηση.</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μέλη τους ασχολούνται αποκλειστικά με τη διατύπωση αιτημάτων, με την προώθηση των συμφερόντων της περιφέρειάς τους και ενίοτε με τον προσωπικό τους πλουτισμό.</a:t>
            </a:r>
            <a:endParaRPr b="0" lang="en-US" sz="1200" spc="-1" strike="noStrike">
              <a:solidFill>
                <a:srgbClr val="000000"/>
              </a:solidFill>
              <a:latin typeface="Arial"/>
            </a:endParaRPr>
          </a:p>
        </p:txBody>
      </p:sp>
      <p:sp>
        <p:nvSpPr>
          <p:cNvPr id="22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2A22-8A84-4BB9-A03D-179937B3377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εξαίρεση ελάχιστων παραδοσιακών και δικτατορικών καθεστώτων, τα περισσότερα απολυταρχικά καθεστώτα διαθέτουν κάποιου είδους κοινοβούλιο. Γιατί, λοιπόν, οι μη δημοκρατικοι ηγέτες μπαίνουν στον κόπο να ασχοληθούν με τα κοινοβούλι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αξία τους έχει τέσσερις διαστάσει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οινοβούλιο προσφέρει φύλλο συκής στην εσωτερική και διεθνή νομιμοποίηση του καθεστώτο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Το κοινοβούλιο μπορεί να χρησιμεύσει για την ένταξη μετριοπαθών αντιφρονούντων στο σύστημα του καθεστώτος, προσφέροντας πεδίο διαβούλευσης πάνω σε ζητήματα που δεν απειλούν τα καίρια συμφέροντα της άρχουσας τάξη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δυνατότητα διατύπωσης των αιτημάτων και των παραπόνων των περιφερειών, και η άσκηση πιέσεων για την ικανοποίηση τοπικών συμφερόντων, εξασφαλίζει ένα μέτρο ενσωμάτωσης κέντρου και περιφέρειας, κράτους και κοινωνία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Τα κοινοβούλια μπορούν να λειτουργήσουν ως χρήσιμη πηγή άντλησης στελεχών για την πολιτική ελίτ.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1D52B-E147-4E9C-9B02-3F0DCA1897E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ύπαρξη κοινοβουλίου αποτελεί θεμελιώδες γνώρισμα μιας δημοκρατίας είτε φιλελεύθερης είτε ανελεύθερης. Έτσι, τα νομοθετικά σώματα αποτελούν στοιχείο της θεσμικής διευθέτησης και στις ανελεύθερες δημοκρατίε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Επιπλέον, η πολιτική τους θέση μπορεί να είναι σημαντική σε τομείς που δεν απειλούν την προεδρική ηγεσία: για παράδειγμα, στην εκπροσώπηση τοπικών περιφερειών και στην ψήφιση ήσσονος σημασίας νόμων.</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Ωστόσο, τα κοινοβούλια αυτά λειτουργούν στη σκιά της εκτελεστικής εξουσία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Το πολιτικό περιβάλλον σε μια ανελεύθερη δημοκρατία είναι ιδιαίτερα εχθρικό απέναντι στην ιδέα ότι τα κοινοβούλια υποχρεώνουν σε λογοδοσία την κυβέρνηση, ασκώντας εξονυχιστικό έλεγχο στη δράση τη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Επιπλέον, πολλές ανελεύθερες δημοκρατίες είναι είτε νεοπαγείς είτε σχετικά φτωχές. Και οι δύο αυτοί παράγοντες υποσκάπτουν την εδραίωση ενός επαγγελματικού κοινοβουλίου με σταθερή σύνθεση, εκτεταμένη ερευνητική υποστήριξη και καλά αναπτυγμένο σύστημα επιτροπών.</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E43F-87FB-48A7-BE09-582F75E45FA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όνο δύο πράγματα, γράφει ο Blondel (1973), μπορούν να ειπωθούν με βεβαιότητα για κάθε κοινοβούλιο: ο αριθμός των μελών και ο αριθμός των σωμάτων του. Και τα δύο αποτελούν σημαντικές πτυχές της κοινοβουλευτικής δομή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έγεθος ενός κοινοβουλίου, δηλαδή ο αριθμός των αντιπροσώπων που συγκροτούν την Κάτω Βουλή, η οποία έχει και τις μεγαλύτερες εξουσίες (εφόσον υπάρχει), έχει άμεση σχέση με τον πληθυσμό της χώρας (Σχήμα 15.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95FC-E6CC-4A3D-B47B-EC819F0C9C9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Παρότι ορισμένα ευρωπαϊκά κοινοβούλια διέθεταν αρχικά πολλά νομοθετικά σώματα, ένα για καθεμία από τις κατεστημένες τάξεις, σήμερα έχουν ένα νομοθετικό σώμα (unicameral) ή δύο νομοθετικά σώματα (bicameral).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Στα κοινοβούλια με δύο νομοθετικά σώματα, η πρώτη ή Κάτω Βουλή ονομάζεται συνήθως «συνέλευση των αντιπροσώπων», «εθνική συνέλευση» ή «κοινοβούλιο». Η δεύτερη ή Άνω Βουλή ονομάζεται κατά κανόνα «Γερουσία».</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F2B7E-B184-4EDE-AB3A-C26A62643FA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Σε ένα σύστημα ασθενούς κοινοβουλίου με δύο νομοθετικά σώματα (weak bicameralism) η Κάτω Βουλή είναι πολύ ισχυρότερη από την Άνω Βουλή, και αποτελεί το κυρίως σώμα προς το οποίο λογοδοτεί η κυβέρνηση. Συναντάται κατά κανόνα στα κοινοβουλευτικά συστήματα. </a:t>
            </a:r>
            <a:endParaRPr b="0" lang="en-US" sz="800" spc="-1" strike="noStrike">
              <a:solidFill>
                <a:srgbClr val="000000"/>
              </a:solidFill>
              <a:latin typeface="Arial"/>
            </a:endParaRPr>
          </a:p>
        </p:txBody>
      </p:sp>
      <p:sp>
        <p:nvSpPr>
          <p:cNvPr id="16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DC94-3045-4957-A2EC-A4160A15F81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Σε ένα σύστημα ισχυρού κοινοβουλίου με δύο νομοθετικά σώματα (strong bicameralism), το οποίο συναντάμε σε μικρό αριθμό ομοσπονδιών που εφαρμόζουν το προεδρικό σύστημα, οι εξουσίες των δύο σωμάτων είναι πιο εξισορροπημένες.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AE42-90DD-4F67-A0C0-D7C307355C3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Τρεις είναι οι βασικοί τρόποι εκλογής της δεύτερης Βουλή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Απευθείας εκλογή (χρησιμοποιείται για το 35% του συνόλου των εδρών της Άνω Βουλή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Έμμεση εκλογή μέσω τοπικών ή περιφερειακών διοικήσεων (επίσης 3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Με διορισμό, συνήθως από την κυβέρνηση (27%).</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5400-DACF-4F11-BA2C-0CBA6C3DA59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ουσία των κοινοβουλίων είναι η αντιπροσώπευση. Ωστόσο, η διαβούλευση και η νομοθεσία είναι σχεδόν εξίσου σημαντικές λειτουργίες. Άλλες κρίσιμες λειτουργίες, που δεν είναι, όμως, κοινές σε όλα τα κοινοβούλια, αφορούν την έγκριση των δημόσιων δαπανών, το σχηματισμό των κυβερνήσεων και την άσκηση ελέγχου επί της εκτελεστικής εξουσίας </a:t>
            </a:r>
            <a:endParaRPr b="0" lang="en-US" sz="1200" spc="-1" strike="noStrike">
              <a:solidFill>
                <a:srgbClr val="000000"/>
              </a:solidFill>
              <a:latin typeface="Arial"/>
            </a:endParaRPr>
          </a:p>
        </p:txBody>
      </p:sp>
      <p:sp>
        <p:nvSpPr>
          <p:cNvPr id="17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2AD1B-B830-4307-9CBF-C40DC08E7EB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Οι κατοχυρωμένες έδρες (reserved seats) προορίζονται αποκλειστικά για υποψηφίους που προέρχονται από συγκεκριμένη ομάδα του πληθυσμού, κατά κανόνα κάποια μειονότητα ή τις γυναίκες.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Το πρώτο σύνταγμα του Πακιστάν (1956), για παράδειγμα, όριζε ότι το 3% των εδρών σε όλα τα κοινοβούλια προορίζεται αποκλειστικά για γυναίκες. Η τοποθέτηση γινόταν μέσω εκλογής μεταξύ αυτών που εξελέγησαν στις απλές έδρες.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Οι κατοχυρωμένες έδρες είναι διακριτός μηχανισμός από τις ποσοστώσεις, που αφορούν συνολικά το κοινοβούλιο ή τα επιμέρους κόμματα τα οποία εκπροσωπούνται σε αυτό.</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23E00-F554-4D1E-9633-FE7B7918784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B5284-4506-49B7-90D7-5F4C4FAE3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38F0A-0BAC-491D-962D-F8E269BAE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C2D62-AEE5-4B53-AA46-425E18471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F4B40-6B43-4B16-84EE-B8FF9E469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9C0910-C3E0-4E1E-95E0-B02B1D232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95615-5FC3-4D9F-BEBF-4DC28112F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CD7BC-257C-4E5F-B59D-DE483E130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B044B-7BED-4EA5-A151-E735180DD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EF9F9-BCFE-4ACD-971E-3DC332EDF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7253F-5462-4586-960A-FD5085EA3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FAC10-AEE8-4828-B1A0-332470CE9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F0860-3CC1-4C19-A4B4-9406B8BB0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AE1E3-6F3E-44CA-9FDF-8F25D8B2D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DFE73-40A1-419C-AC09-8FB430C46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3C181-0D74-41E0-AE0A-05E894B15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C3E060-4E43-41F4-882C-B2F573952A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7DA182-EA6B-4C7E-A257-ECA3857B30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9FA25-7BEE-454B-BE9A-981BDD276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8776F-AB30-4B6C-9034-40F78C299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52DEA-8181-4480-A661-84123DEE1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A1937-F68C-40B0-BF58-BCA37E991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F4666-415A-4F15-9C47-8AF55F3DA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B653F-4E21-49B2-8ABA-810A0E938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6602A-FBEB-4565-8B10-57A4719A2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0B84-ACF1-44BD-A5F5-3F8246E0AB75}"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777D-5F18-49C2-A28C-861F3225FF54}"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1</a:t>
            </a:r>
            <a:r>
              <a:rPr b="0" lang="en-US" sz="4800" spc="-1" strike="noStrike">
                <a:solidFill>
                  <a:srgbClr val="660033"/>
                </a:solidFill>
                <a:latin typeface="Times New Roman"/>
              </a:rPr>
              <a:t>5</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ομοθετικά σώματ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ιαβούλευση</a:t>
            </a:r>
            <a:endParaRPr b="0" lang="en-US" sz="4200" spc="-1" strike="noStrike">
              <a:solidFill>
                <a:srgbClr val="660033"/>
              </a:solidFill>
              <a:latin typeface="Times New Roman"/>
            </a:endParaRPr>
          </a:p>
        </p:txBody>
      </p:sp>
      <p:sp>
        <p:nvSpPr>
          <p:cNvPr id="124"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ε ένα πλειοψηφιοκρατικό κοινοβούλιο (debating legislature), όπως η βρετανική Βουλή των Κοινοτήτων, η κύρια δραστηριότητα είναι ο κοινοβουλευτικός διάλογος στην ολομέλεια. Εκεί εξετάζονται τα μείζονα ζητήματα και τα κόμματα κερδίζουν ή χάνουν έδαφο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ιαβούλευση</a:t>
            </a:r>
            <a:endParaRPr b="0" lang="en-US" sz="4200" spc="-1" strike="noStrike">
              <a:solidFill>
                <a:srgbClr val="660033"/>
              </a:solidFill>
              <a:latin typeface="Times New Roman"/>
            </a:endParaRPr>
          </a:p>
        </p:txBody>
      </p:sp>
      <p:sp>
        <p:nvSpPr>
          <p:cNvPr id="12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τίθετα, σε ένα διαβουλευτικό κοινοβούλιο (committee-based legislature), όπως το αμερικανικό Κογκρέσο, η περισσότερη δουλειά γίνεται σε επίπεδο επιτροπών. Εκεί τα μέλη τους ασχολούνται με την εξειδικευμένη μετατροπή των νομοσχεδίων σε νόμους, διενεργούν ακροάσεις και ελέγχουν την εκτελεστική εξουσί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Νομοθεσία</a:t>
            </a:r>
            <a:endParaRPr b="0" lang="en-US" sz="4200" spc="-1" strike="noStrike">
              <a:solidFill>
                <a:srgbClr val="660033"/>
              </a:solidFill>
              <a:latin typeface="Times New Roman"/>
            </a:endParaRPr>
          </a:p>
        </p:txBody>
      </p:sp>
      <p:sp>
        <p:nvSpPr>
          <p:cNvPr id="128" name=""/>
          <p:cNvSpPr txBox="1"/>
          <p:nvPr/>
        </p:nvSpPr>
        <p:spPr>
          <a:xfrm>
            <a:off x="685800" y="1599840"/>
            <a:ext cx="2666880" cy="1143000"/>
          </a:xfrm>
          <a:prstGeom prst="rect">
            <a:avLst/>
          </a:prstGeom>
          <a:noFill/>
          <a:ln w="0">
            <a:noFill/>
          </a:ln>
        </p:spPr>
        <p:txBody>
          <a:bodyPr anchor="t">
            <a:normAutofit fontScale="92000"/>
          </a:bodyPr>
          <a:p>
            <a:pPr marL="315360" indent="-31536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15.2: Η συνήθης νομοθετική διαδικασία</a:t>
            </a:r>
            <a:endParaRPr b="0" lang="en-US" sz="2000" spc="-1" strike="noStrike">
              <a:solidFill>
                <a:srgbClr val="000000"/>
              </a:solidFill>
              <a:latin typeface="Arial"/>
            </a:endParaRPr>
          </a:p>
        </p:txBody>
      </p:sp>
      <p:pic>
        <p:nvPicPr>
          <p:cNvPr id="129" name="Picture 2" descr="C:\Users\EPIMELEIA\Dropbox\Kritiki-Book-Proofing\14-sigritiki-politiki-hague\images\Hag_Fig_15_02.png"/>
          <p:cNvPicPr/>
          <p:nvPr/>
        </p:nvPicPr>
        <p:blipFill>
          <a:blip r:embed="rId1"/>
          <a:stretch/>
        </p:blipFill>
        <p:spPr>
          <a:xfrm>
            <a:off x="3048120" y="1576440"/>
            <a:ext cx="3429000" cy="5205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Έγκριση δαπανών</a:t>
            </a:r>
            <a:endParaRPr b="0" lang="en-US" sz="4200" spc="-1" strike="noStrike">
              <a:solidFill>
                <a:srgbClr val="660033"/>
              </a:solidFill>
              <a:latin typeface="Times New Roman"/>
            </a:endParaRPr>
          </a:p>
        </p:txBody>
      </p:sp>
      <p:sp>
        <p:nvSpPr>
          <p:cNvPr id="131"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ακλητός προϋπολογισμός (reversionary budget) είναι ο προϋπολογισμός (κατά κανόνα περασμένου έτους) που τίθεται σε ισχύ εάν το νομοθετικό σώμα δεν ψηφίσει εγκαίρως νέο προϋπολογισμ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Έλεγχος</a:t>
            </a:r>
            <a:endParaRPr b="0" lang="en-US" sz="4200" spc="-1" strike="noStrike">
              <a:solidFill>
                <a:srgbClr val="660033"/>
              </a:solidFill>
              <a:latin typeface="Times New Roman"/>
            </a:endParaRPr>
          </a:p>
        </p:txBody>
      </p:sp>
      <p:sp>
        <p:nvSpPr>
          <p:cNvPr id="13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εχνικές ελέγχου της εκτελεστικής εξουσίας:</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ρωτήσεις και επερωτήσεις στην ολομέλει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Έκτακτες συζητήσεις και ψήφοι εμπιστοσύνη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ξεταστικές επιτροπέ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Έλεγχος</a:t>
            </a:r>
            <a:endParaRPr b="0" lang="en-US" sz="4200" spc="-1" strike="noStrike">
              <a:solidFill>
                <a:srgbClr val="660033"/>
              </a:solidFill>
              <a:latin typeface="Times New Roman"/>
            </a:endParaRPr>
          </a:p>
        </p:txBody>
      </p:sp>
      <p:sp>
        <p:nvSpPr>
          <p:cNvPr id="135"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ι ερωτήσεις (questions) απευθύνουν συγκεκριμένα ερωτήματα στους καθ' ύλην αρμόδιους υπουργούς. </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επερώτηση (interpellation) είναι μορφή ερώτησης την οποία απευθύνει η αντιπολίτευση στην κυβέρνηση. Ακολουθεί κοινοβουλευτικός διάλογος και στη συνέχεια ψηφοφορία μεταξύ των βουλευτών, οι οποίοι αποφασίζουν για το κατά πόσο το κοινοβούλιο έμεινε ικανοποιημένο από τις απαντήσεις που δόθηκαν.</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πιτροπές</a:t>
            </a:r>
            <a:endParaRPr b="0" lang="en-US" sz="4200" spc="-1" strike="noStrike">
              <a:solidFill>
                <a:srgbClr val="660033"/>
              </a:solidFill>
              <a:latin typeface="Times New Roman"/>
            </a:endParaRPr>
          </a:p>
        </p:txBody>
      </p:sp>
      <p:pic>
        <p:nvPicPr>
          <p:cNvPr id="137" name="Picture 2" descr=""/>
          <p:cNvPicPr/>
          <p:nvPr/>
        </p:nvPicPr>
        <p:blipFill>
          <a:blip r:embed="rId1"/>
          <a:stretch/>
        </p:blipFill>
        <p:spPr>
          <a:xfrm>
            <a:off x="1219320" y="1735200"/>
            <a:ext cx="7132680" cy="413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τελέχωση</a:t>
            </a:r>
            <a:endParaRPr b="0" lang="en-US" sz="4200" spc="-1" strike="noStrike">
              <a:solidFill>
                <a:srgbClr val="660033"/>
              </a:solidFill>
              <a:latin typeface="Times New Roman"/>
            </a:endParaRPr>
          </a:p>
        </p:txBody>
      </p:sp>
      <p:sp>
        <p:nvSpPr>
          <p:cNvPr id="139"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ύμφωνα με τη διάσημη διάκριση που έκανε ο Weber (1918), οι πολιτικοί καριέρας (professional politicians) ζουν από, και όχι μόνο για, την πολιτική. Πρόκειται για ανθρώπους που βλέπουν την πολιτική ως πλήρη απασχόληση και προσδοκούν από αυτήν εισόδημα, υποστήριξη, ιεραρχική ανέλιξη και συνταξιοδότηση. </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τελέχωση</a:t>
            </a:r>
            <a:endParaRPr b="0" lang="en-US" sz="4200" spc="-1" strike="noStrike">
              <a:solidFill>
                <a:srgbClr val="660033"/>
              </a:solidFill>
              <a:latin typeface="Times New Roman"/>
            </a:endParaRPr>
          </a:p>
        </p:txBody>
      </p:sp>
      <p:sp>
        <p:nvSpPr>
          <p:cNvPr id="141"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αμιά φορά λέγεται ότι οι πολιτικοί καριέρας σχηματίζουν μια πολιτική τάξη (political class), όρος που υποδηλώνει την ύπαρξη μιας ομάδας που διαθέτει και συχνά ενεργεί με βάση κοινά συμφέροντα. </a:t>
            </a:r>
            <a:endParaRPr b="0" lang="en-US" sz="2600" spc="-1" strike="noStrike">
              <a:solidFill>
                <a:srgbClr val="000000"/>
              </a:solidFill>
              <a:latin typeface="Arial"/>
            </a:endParaRPr>
          </a:p>
          <a:p>
            <a:pPr lvl="1" marL="743040" indent="-2858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Mosca, 1896</a:t>
            </a:r>
            <a:endParaRPr b="0" lang="en-US" sz="2400" spc="-1" strike="noStrike">
              <a:solidFill>
                <a:srgbClr val="000000"/>
              </a:solidFill>
              <a:latin typeface="Arial"/>
            </a:endParaRPr>
          </a:p>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τελέχωση</a:t>
            </a:r>
            <a:endParaRPr b="0" lang="en-US" sz="4200" spc="-1" strike="noStrike">
              <a:solidFill>
                <a:srgbClr val="660033"/>
              </a:solidFill>
              <a:latin typeface="Times New Roman"/>
            </a:endParaRPr>
          </a:p>
        </p:txBody>
      </p:sp>
      <p:sp>
        <p:nvSpPr>
          <p:cNvPr id="14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πλεονέκτημα του κατέχοντος το αξίωμα (incumbency effect) αναφέρεται στο εκλογικό πλεονέκτημα που αποκτούν τα νυν μέλη ενός κοινοβουλίου όταν είναι ξανά υποψήφια.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ρισμός</a:t>
            </a:r>
            <a:endParaRPr b="0" lang="en-US" sz="4200" spc="-1" strike="noStrike">
              <a:solidFill>
                <a:srgbClr val="660033"/>
              </a:solidFill>
              <a:latin typeface="Times New Roman"/>
            </a:endParaRPr>
          </a:p>
        </p:txBody>
      </p:sp>
      <p:sp>
        <p:nvSpPr>
          <p:cNvPr id="107"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ομοθετικό σώμα (legislature) είναι ένα πολυμελές αντιπροσωπευτικό όργανο, το οποίο διαβουλεύεται επί των δημόσιων ζητημάτων και καταλήγει σε δεσμευτικές δημόσιες πολιτικές αποφάσεις για λογαριασμό μιας πολιτικής κοινότητας που υπερβαίνει την εκτελεστική εξουσία.</a:t>
            </a:r>
            <a:endParaRPr b="0" lang="en-US" sz="28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Norton, 199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τελέχωση</a:t>
            </a:r>
            <a:endParaRPr b="0" lang="en-US" sz="4200" spc="-1" strike="noStrike">
              <a:solidFill>
                <a:srgbClr val="660033"/>
              </a:solidFill>
              <a:latin typeface="Times New Roman"/>
            </a:endParaRPr>
          </a:p>
        </p:txBody>
      </p:sp>
      <p:sp>
        <p:nvSpPr>
          <p:cNvPr id="145"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όρια θητείας (term limits) επιβάλλουν στους εκλεγμένους πολιτικούς συγκεκριμένο αριθμό θητειών που μπορούν να υπηρετήσουν ή  απαγορεύουν την επανεκλογή τους εάν δεν έχει μεσολαβήσει μια περίοδος. Επιβάλλουν την ανανέωση των σωμάτων με τίμημα τον μειωμένο επαγγελματισμό.</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τελέχωση</a:t>
            </a:r>
            <a:endParaRPr b="0" lang="en-US" sz="4200" spc="-1" strike="noStrike">
              <a:solidFill>
                <a:srgbClr val="660033"/>
              </a:solidFill>
              <a:latin typeface="Times New Roman"/>
            </a:endParaRPr>
          </a:p>
        </p:txBody>
      </p:sp>
      <p:sp>
        <p:nvSpPr>
          <p:cNvPr id="147"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διασημότητες που πέρασαν στην πολιτική (celebrities-turned-politicians) εκμεταλλεύονται τη φήμη που απέκτησαν σε άλλους τομείς δραστηριότητας εκτός πολιτικής, για να διευκολύνουν το πέρασμά τους σε πολιτικά αξιώματα και βουλευτικές έδρες.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τελέχωση</a:t>
            </a:r>
            <a:endParaRPr b="0" lang="en-US" sz="4200" spc="-1" strike="noStrike">
              <a:solidFill>
                <a:srgbClr val="660033"/>
              </a:solidFill>
              <a:latin typeface="Times New Roman"/>
            </a:endParaRPr>
          </a:p>
        </p:txBody>
      </p:sp>
      <p:sp>
        <p:nvSpPr>
          <p:cNvPr id="14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ομάδα αυτή διαφοροποιείται από τους πολιτικούς ως διασημότητες (politicians-as-celebrities), οι οποίοι προβάλλονται στους ψηφοφόρους σαν διάσημοι σταρ του θεάτρου ή του κινηματογράφο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Τα κοινοβούλια </a:t>
            </a:r>
            <a:br>
              <a:rPr sz="4000"/>
            </a:br>
            <a:r>
              <a:rPr b="0" lang="el-GR" sz="4000" spc="-1" strike="noStrike">
                <a:solidFill>
                  <a:srgbClr val="660033"/>
                </a:solidFill>
                <a:latin typeface="Times New Roman"/>
              </a:rPr>
              <a:t>στα απολυταρχικά κράτη</a:t>
            </a:r>
            <a:endParaRPr b="0" lang="en-US" sz="4000" spc="-1" strike="noStrike">
              <a:solidFill>
                <a:srgbClr val="660033"/>
              </a:solidFill>
              <a:latin typeface="Times New Roman"/>
            </a:endParaRPr>
          </a:p>
        </p:txBody>
      </p:sp>
      <p:sp>
        <p:nvSpPr>
          <p:cNvPr id="151"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εριορισμένος ρόλος – λειτουργούν ως σκιώδεις θεσμοί</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ευθείας διορισμός από την κυβέρνηση</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τύπωση αιτημάτ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660033"/>
                </a:solidFill>
                <a:latin typeface="Times New Roman"/>
              </a:rPr>
              <a:t>Τα κοινοβούλια </a:t>
            </a:r>
            <a:br>
              <a:rPr sz="4400"/>
            </a:br>
            <a:r>
              <a:rPr b="0" lang="el-GR" sz="4400" spc="-1" strike="noStrike">
                <a:solidFill>
                  <a:srgbClr val="660033"/>
                </a:solidFill>
                <a:latin typeface="Times New Roman"/>
              </a:rPr>
              <a:t>στα απολυταρχικά κράτη</a:t>
            </a:r>
            <a:endParaRPr b="0" lang="en-US" sz="4400" spc="-1" strike="noStrike">
              <a:solidFill>
                <a:srgbClr val="660033"/>
              </a:solidFill>
              <a:latin typeface="Times New Roman"/>
            </a:endParaRPr>
          </a:p>
        </p:txBody>
      </p:sp>
      <p:sp>
        <p:nvSpPr>
          <p:cNvPr id="15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ρόλος των κοινοβουλίων στα απολυταρχικά κράτη:</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ροσφέρουν φύλλο συκής στην εσωτερική και διεθνή νομιμοποίηση του καθεστώτος </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ξυπηρετούν την ένταξη μετριοπαθών αντιφρονούντων στο σύστημα του καθεστώτο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ξασφαλίζουν ένα μέτρο ενσωμάτωσης κέντρου και περιφέρειας, κράτους και κοινωνί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Λειτουργούν ως χρήσιμη πηγή άντλησης στελεχών για την πολιτική ελίτ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Τα κοινοβούλια </a:t>
            </a:r>
            <a:br>
              <a:rPr sz="4000"/>
            </a:br>
            <a:r>
              <a:rPr b="0" lang="el-GR" sz="4000" spc="-1" strike="noStrike">
                <a:solidFill>
                  <a:srgbClr val="660033"/>
                </a:solidFill>
                <a:latin typeface="Times New Roman"/>
              </a:rPr>
              <a:t>στις ανελεύθερες δημοκρατίες</a:t>
            </a:r>
            <a:endParaRPr b="0" lang="en-US" sz="4000" spc="-1" strike="noStrike">
              <a:solidFill>
                <a:srgbClr val="660033"/>
              </a:solidFill>
              <a:latin typeface="Times New Roman"/>
            </a:endParaRPr>
          </a:p>
        </p:txBody>
      </p:sp>
      <p:sp>
        <p:nvSpPr>
          <p:cNvPr id="155" name=""/>
          <p:cNvSpPr txBox="1"/>
          <p:nvPr/>
        </p:nvSpPr>
        <p:spPr>
          <a:xfrm>
            <a:off x="914400" y="1599840"/>
            <a:ext cx="7772400" cy="4530600"/>
          </a:xfrm>
          <a:prstGeom prst="rect">
            <a:avLst/>
          </a:prstGeom>
          <a:noFill/>
          <a:ln w="0">
            <a:noFill/>
          </a:ln>
        </p:spPr>
        <p:txBody>
          <a:bodyPr anchor="t">
            <a:normAutofit/>
          </a:bodyPr>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α νομοθετικά σώματα αποτελούν στοιχείο της θεσμικής διευθέτησης</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πολιτική τους θέση μπορεί να είναι σημαντική σε τομείς που δεν απειλούν την προεδρική ηγεσία</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Λειτουργούν στη σκιά της εκτελεστικής εξουσίας</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εν ασκούν έλεγχο στην κυβέρνηση</a:t>
            </a:r>
            <a:endParaRPr b="0" lang="en-US" sz="2600" spc="-1" strike="noStrike">
              <a:solidFill>
                <a:srgbClr val="000000"/>
              </a:solidFill>
              <a:latin typeface="Arial"/>
            </a:endParaRPr>
          </a:p>
          <a:p>
            <a:pPr marL="343080" indent="-343080">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εν αποτελούν επαγγελματικά κοινοβούλια με σταθερή σύνθεσ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4 - TextBox"/>
          <p:cNvSpPr/>
          <p:nvPr/>
        </p:nvSpPr>
        <p:spPr>
          <a:xfrm>
            <a:off x="1295280" y="2328840"/>
            <a:ext cx="701064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ομή</a:t>
            </a:r>
            <a:endParaRPr b="0" lang="en-US" sz="4200" spc="-1" strike="noStrike">
              <a:solidFill>
                <a:srgbClr val="660033"/>
              </a:solidFill>
              <a:latin typeface="Times New Roman"/>
            </a:endParaRPr>
          </a:p>
        </p:txBody>
      </p:sp>
      <p:sp>
        <p:nvSpPr>
          <p:cNvPr id="109" name=""/>
          <p:cNvSpPr txBox="1"/>
          <p:nvPr/>
        </p:nvSpPr>
        <p:spPr>
          <a:xfrm>
            <a:off x="914400" y="1600200"/>
            <a:ext cx="7772400" cy="4572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15.1: Πληθυσμός και μέγεθος του κοινοβουλίου, 2009</a:t>
            </a:r>
            <a:endParaRPr b="0" lang="en-US" sz="2000" spc="-1" strike="noStrike">
              <a:solidFill>
                <a:srgbClr val="000000"/>
              </a:solidFill>
              <a:latin typeface="Arial"/>
            </a:endParaRPr>
          </a:p>
        </p:txBody>
      </p:sp>
      <p:pic>
        <p:nvPicPr>
          <p:cNvPr id="110" name="Picture 3" descr="C:\Users\EPIMELEIA\Dropbox\Kritiki-Book-Proofing\14-sigritiki-politiki-hague\images\Hag_Fig_15_01.png"/>
          <p:cNvPicPr/>
          <p:nvPr/>
        </p:nvPicPr>
        <p:blipFill>
          <a:blip r:embed="rId1"/>
          <a:stretch/>
        </p:blipFill>
        <p:spPr>
          <a:xfrm>
            <a:off x="2057400" y="2133720"/>
            <a:ext cx="5592600" cy="4103640"/>
          </a:xfrm>
          <a:prstGeom prst="rect">
            <a:avLst/>
          </a:prstGeom>
          <a:ln w="9360">
            <a:solidFill>
              <a:srgbClr val="ffadd6"/>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ομή</a:t>
            </a:r>
            <a:endParaRPr b="0" lang="en-US" sz="4200" spc="-1" strike="noStrike">
              <a:solidFill>
                <a:srgbClr val="660033"/>
              </a:solidFill>
              <a:latin typeface="Times New Roman"/>
            </a:endParaRPr>
          </a:p>
        </p:txBody>
      </p:sp>
      <p:sp>
        <p:nvSpPr>
          <p:cNvPr id="112"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αρότι ορισμένα ευρωπαϊκά κοινοβούλια διέθεταν αρχικά πολλά νομοθετικά σώματα, ένα για καθεμία από τις κατεστημένες τάξεις, σήμερα έχουν ένα νομοθετικό σώμα (unicameral) ή δύο νομοθετικά σώματα (bicameral).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ομή</a:t>
            </a:r>
            <a:endParaRPr b="0" lang="en-US" sz="4200" spc="-1" strike="noStrike">
              <a:solidFill>
                <a:srgbClr val="660033"/>
              </a:solidFill>
              <a:latin typeface="Times New Roman"/>
            </a:endParaRPr>
          </a:p>
        </p:txBody>
      </p:sp>
      <p:sp>
        <p:nvSpPr>
          <p:cNvPr id="114"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ε ένα σύστημα ασθενούς κοινοβουλίου με δύο νομοθετικά σώματα (weak bicameralism) η Κάτω Βουλή είναι πολύ ισχυρότερη από την Άνω Βουλή, και αποτελεί το κυρίως σώμα προς το οποίο λογοδοτεί η κυβέρνηση. Συναντάται κατά κανόνα στα κοινοβουλευτικά συστήματ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ομή</a:t>
            </a:r>
            <a:endParaRPr b="0" lang="en-US" sz="4200" spc="-1" strike="noStrike">
              <a:solidFill>
                <a:srgbClr val="660033"/>
              </a:solidFill>
              <a:latin typeface="Times New Roman"/>
            </a:endParaRPr>
          </a:p>
        </p:txBody>
      </p:sp>
      <p:sp>
        <p:nvSpPr>
          <p:cNvPr id="11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ε ένα σύστημα ισχυρού κοινοβουλίου με δύο νομοθετικά σώματα (strong bicameralism), το οποίο συναντάμε σε μικρό αριθμό ομοσπονδιών που εφαρμόζουν το προεδρικό σύστημα, οι εξουσίες των δύο σωμάτων είναι πιο εξισορροπημένες. </a:t>
            </a:r>
            <a:endParaRPr b="0" lang="en-US" sz="28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Lijphart, 1999</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ομή</a:t>
            </a:r>
            <a:endParaRPr b="0" lang="en-US" sz="4200" spc="-1" strike="noStrike">
              <a:solidFill>
                <a:srgbClr val="660033"/>
              </a:solidFill>
              <a:latin typeface="Times New Roman"/>
            </a:endParaRPr>
          </a:p>
        </p:txBody>
      </p:sp>
      <p:sp>
        <p:nvSpPr>
          <p:cNvPr id="118"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κλογή του δεύτερου νομοθετικού σώματος:</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πευθείας εκλογή</a:t>
            </a:r>
            <a:endParaRPr b="0" lang="en-US" sz="26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μμεση εκλογή μέσω τοπικών ή περιφερειακών διοικήσεων</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 διορισμό, συνήθως από την κυβέρνηση </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Λειτουργίες</a:t>
            </a:r>
            <a:endParaRPr b="0" lang="en-US" sz="4200" spc="-1" strike="noStrike">
              <a:solidFill>
                <a:srgbClr val="660033"/>
              </a:solidFill>
              <a:latin typeface="Times New Roman"/>
            </a:endParaRPr>
          </a:p>
        </p:txBody>
      </p:sp>
      <p:sp>
        <p:nvSpPr>
          <p:cNvPr id="120"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τιπροσώπευση</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βούλευση</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ομοθεσί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γκριση δαπανών</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χηματισμός κυβέρνηση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λεγχο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Αντιπροσώπευση </a:t>
            </a:r>
            <a:endParaRPr b="0" lang="en-US" sz="4200" spc="-1" strike="noStrike">
              <a:solidFill>
                <a:srgbClr val="660033"/>
              </a:solidFill>
              <a:latin typeface="Times New Roman"/>
            </a:endParaRPr>
          </a:p>
        </p:txBody>
      </p:sp>
      <p:sp>
        <p:nvSpPr>
          <p:cNvPr id="122"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κατοχυρωμένες έδρες (reserved seats) προορίζονται αποκλειστικά για υποψηφίους που προέρχονται από συγκεκριμένη ομάδα του πληθυσμού, κατά κανόνα κάποια μειονότητα ή τις γυναίκε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8T06:47:33Z</dcterms:created>
  <dc:creator>pc</dc:creator>
  <dc:description/>
  <dc:language>en-US</dc:language>
  <cp:lastModifiedBy>EPIMELEIA</cp:lastModifiedBy>
  <dcterms:modified xsi:type="dcterms:W3CDTF">2013-09-24T06:48:06Z</dcterms:modified>
  <cp:revision>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